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01B-C4CA-4CE3-B7A2-440D5706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907-799F-4FAF-8B38-F412B8E2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5C6-7572-44E2-AF00-92F3B23F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93E-B789-460E-BA95-92EDF4CA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F5C1-E668-42ED-8F41-305F3AA7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7B61-EF96-4277-9FBC-52AD1E64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D249-09E9-41FE-8CC8-AB137E78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D4A7-F8E3-43B0-AED6-E94057AA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1FA5-2B50-4604-BB8B-FE0FED94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3156-BF2B-453E-8D4E-916C539E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4B8B-5E1B-47C0-97DE-612A646A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9D76-F2BD-489B-999C-76B9E8BC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F7CF-0A89-4CC8-A15C-3B02988D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4F61-E5AF-429A-AA75-640E8F5B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FB5C-6FE5-4DF1-AE71-37B2288C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1096-5AC0-40DB-972D-B18FC262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91A8-E9F1-4E80-88FF-E2407AFE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924-CAC5-48A9-8ADD-93740F39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5D5-9D45-4DB8-88A8-8D561CBF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42A-C570-4445-828B-3A77C9AA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22A-2CB7-41B1-8408-EF5B4382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8A75-3CEA-476D-8E3B-7678CD48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D15-9E19-4EBA-908E-1D42342E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918-6F2D-413F-91FB-263AF5FD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08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26F0-D050-4884-AD04-C3CBC56331E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CFD3-DCAC-4E31-9347-014D348DEE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990720"/>
            <a:ext cx="9009000" cy="1052280"/>
            <a:chOff x="0" y="9907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098360"/>
              <a:ext cx="711360" cy="474480"/>
              <a:chOff x="290520" y="10983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0983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0983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520640"/>
              <a:ext cx="737640" cy="474480"/>
              <a:chOff x="414360" y="15206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5206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5206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4475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9907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8118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EF6B-CC6E-4F5D-8D7B-D656CDD37B6C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B5D9-27B9-46B1-B0E4-33A4BCBF97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knjizara/catalog.php" TargetMode="External"/><Relationship Id="rId2" Type="http://schemas.openxmlformats.org/officeDocument/2006/relationships/hyperlink" Target="file:///knjizara/catalog.php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ocalhost/php/bookstore/index.html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php-txt/bookstore/admin/links.html" TargetMode="External"/><Relationship Id="rId3" Type="http://schemas.openxmlformats.org/officeDocument/2006/relationships/hyperlink" Target="file:///php-txt/bookstore/admin/display.php.txt" TargetMode="External"/><Relationship Id="rId4" Type="http://schemas.openxmlformats.org/officeDocument/2006/relationships/hyperlink" Target="file:///php-txt/bookstore/admin/display.php.txt" TargetMode="External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php-txt/bookstore/admin/insert.php.txt" TargetMode="External"/><Relationship Id="rId3" Type="http://schemas.openxmlformats.org/officeDocument/2006/relationships/hyperlink" Target="file:///php-txt/bookstore/admin/insert.php.txt" TargetMode="External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file:///php-txt/bookstore/admin/update.php.txt" TargetMode="External"/><Relationship Id="rId4" Type="http://schemas.openxmlformats.org/officeDocument/2006/relationships/hyperlink" Target="file:///php-txt/bookstore/admin/update.php.txt" TargetMode="External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php-txt/bookstore/admin/delete.php.txt" TargetMode="External"/><Relationship Id="rId3" Type="http://schemas.openxmlformats.org/officeDocument/2006/relationships/hyperlink" Target="file:///php-txt/bookstore/admin/delete.php.txt" TargetMode="External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knjizara/db_connect.php" TargetMode="External"/><Relationship Id="rId2" Type="http://schemas.openxmlformats.org/officeDocument/2006/relationships/hyperlink" Target="file:///knjizara/db_connect.php" TargetMode="External"/><Relationship Id="rId3" Type="http://schemas.openxmlformats.org/officeDocument/2006/relationships/hyperlink" Target="file:///knjizara/db_connect.php" TargetMode="External"/><Relationship Id="rId4" Type="http://schemas.openxmlformats.org/officeDocument/2006/relationships/hyperlink" Target="file:///knjizara/db_connect.php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knjizara/catalog.php" TargetMode="External"/><Relationship Id="rId2" Type="http://schemas.openxmlformats.org/officeDocument/2006/relationships/hyperlink" Target="file:///knjizara/catalog.php" TargetMode="External"/><Relationship Id="rId3" Type="http://schemas.openxmlformats.org/officeDocument/2006/relationships/hyperlink" Target="file:///knjizara/cart.php" TargetMode="External"/><Relationship Id="rId4" Type="http://schemas.openxmlformats.org/officeDocument/2006/relationships/hyperlink" Target="file:///knjizara/cart.php" TargetMode="External"/><Relationship Id="rId5" Type="http://schemas.openxmlformats.org/officeDocument/2006/relationships/hyperlink" Target="file:///knjizara/checkout.php" TargetMode="External"/><Relationship Id="rId6" Type="http://schemas.openxmlformats.org/officeDocument/2006/relationships/hyperlink" Target="file:///knjizara/checkout.php" TargetMode="External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knjizara/bookstore.sq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Web Dizaj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ine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KNJIŽA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ine Bookstore Application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njiga: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nternet &amp; World Wide Web How to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http://www.cs.laurentian.ca/badams/c2206/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Document"/>
          <p:cNvSpPr/>
          <p:nvPr/>
        </p:nvSpPr>
        <p:spPr>
          <a:xfrm flipH="1" rot="10800000">
            <a:off x="3827880" y="382860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tabela korisni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600200"/>
            <a:ext cx="8458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TABLE custome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ustomer_id  CHAR(32)    PRIMARY KEY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irst_name   VARCHAR(50)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last_name    VARCHAR(50) NOT NU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114800"/>
            <a:ext cx="36576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omjenlji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_id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ije isto što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ssion_id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zato što korisnik može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više puta naručiti 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oku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edne ses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343400"/>
            <a:ext cx="2514600" cy="1447920"/>
          </a:xfrm>
          <a:prstGeom prst="wedgeRoundRectCallout">
            <a:avLst>
              <a:gd name="adj1" fmla="val -99180"/>
              <a:gd name="adj2" fmla="val -114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oguće uključiti i razna polja kao što su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nfo o kreditnoj kartici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E15-DCB0-450F-B13E-F9E377CF3CE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91842-B760-48CA-94FB-6C76954DE3F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tabela naručene_knji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600200"/>
            <a:ext cx="8458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TABLE books_order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ustomer_id  CHAR(32)  PRIMARY KEY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sbn         CHAR(15) 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quantity     INT       NOT NU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114800"/>
            <a:ext cx="36576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adržaj naručene_knjige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e nakon provjere prebačen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 ovu tabe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114800"/>
            <a:ext cx="342900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abe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s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_ordered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zajedno čine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RUDŽBI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07B-DCB0-49D7-82A4-3F38519460D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A6023-5C03-4EF2-9364-F30E836D54A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RIKAZ -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 display p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650080" cy="3289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88200" y="5116680"/>
            <a:ext cx="508680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vaki ovaj podatak sadrži skrive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lje 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BN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ako da u svakom trenutku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znamo kada je dug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itisn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8267760" y="4457520"/>
            <a:ext cx="380880" cy="609840"/>
          </a:xfrm>
          <a:custGeom>
            <a:avLst/>
            <a:gdLst>
              <a:gd name="textAreaLeft" fmla="*/ 243360 w 380880"/>
              <a:gd name="textAreaRight" fmla="*/ 381240 w 3808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791320" y="4952520"/>
            <a:ext cx="2666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9672-5539-4226-8BC8-8BF2F15562D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3C154-0DB6-42D4-8899-6CF69BAAE45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Skriveno polje u katalogu za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SB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rikaz svakog unesenog polja u katalog odvija se na osnovu vrste u tabeli koja je oblika kao u poslednjoj kolon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ada s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a pošalje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bn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se takođe pošalje kao skriveno polj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666880"/>
            <a:ext cx="845820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rm method="POST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input type="hidden" name="isbn"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ue="&lt;?php echo $isbn?&gt;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text" name="quantity" value="1" size="2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submit" name="remove" value="remove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61F-81C3-43E9-9C83-EC28095641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7CB70-2744-4650-A900-9E493608C85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LOGIKA-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 script log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600200"/>
            <a:ext cx="8458200" cy="23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 books from books table for catal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dd button was clicke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dd book to cart 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catalog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catalog pa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4419720"/>
            <a:ext cx="59436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d boo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book already in cart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Update book quantity in cart 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nsert new book into ca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209680"/>
            <a:ext cx="3581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2590920"/>
            <a:ext cx="685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B80F-AB92-488E-B085-A603AA50036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1EEC4-519A-46E1-829A-D73C12404AF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 script display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600200"/>
            <a:ext cx="8458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* from $book_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3733920"/>
            <a:ext cx="4190760" cy="1676160"/>
          </a:xfrm>
          <a:prstGeom prst="wedgeRectCallout">
            <a:avLst>
              <a:gd name="adj1" fmla="val -95606"/>
              <a:gd name="adj2" fmla="val -1018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aj upit se koristi da dobijem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ve informacije o knjizi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oje će biti prikazane u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ATALOG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85F-87AC-4CDE-89B3-E9AFF8207CE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21251-9BD8-484A-810D-29E00BCC36D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 script find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* from $cart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RE session_id = '$session_id' AND isbn = '$isbn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3657600"/>
            <a:ext cx="3505320" cy="2133720"/>
          </a:xfrm>
          <a:prstGeom prst="wedgeRectCallout">
            <a:avLst>
              <a:gd name="adj1" fmla="val -121106"/>
              <a:gd name="adj2" fmla="val -1038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aj upit se koristi da saznamo da li knjiga postoji u karti za kupovin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 ako postoji, nakon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itiska digmeta add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(dodaj) njeno ažuriranj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1042-D55B-4000-B7E5-72E8AC9CAD6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DD9C9-1B71-43EB-BD6E-C5197E5392C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 script insert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 INTO $cart_table VALU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'$session_id', '$isbn', '$quantity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3733920"/>
            <a:ext cx="3505320" cy="1904760"/>
          </a:xfrm>
          <a:prstGeom prst="wedgeRectCallout">
            <a:avLst>
              <a:gd name="adj1" fmla="val -115398"/>
              <a:gd name="adj2" fmla="val -9558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aj upit koristimo da dodamo knjigu po prvi put u kartu za kupovinu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ada se pritis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(dodaj) dug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621-1C1B-464A-A552-298BA6B0B4C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16E15-8C62-45E8-B449-3C24A40C7D40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 script update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PDATE $cart_table SET quantity = '$new_quantity'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RE session_id = '$session_id' AND isbn = '$isbn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3733920"/>
            <a:ext cx="3505320" cy="1904760"/>
          </a:xfrm>
          <a:prstGeom prst="wedgeRectCallout">
            <a:avLst>
              <a:gd name="adj1" fmla="val -115398"/>
              <a:gd name="adj2" fmla="val -9558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aj se upit koristi d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zuriramo količinu postojeće knjige u tabeli karte za kupovinu kada je dug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čekir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60E-C648-4022-9801-C31D4B5DB15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4A03B-267F-4067-8DF2-CBDBBB488B7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2293920"/>
            <a:ext cx="74674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prikaž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cript </a:t>
            </a:r>
            <a:r>
              <a:rPr b="0" lang="sr-Latn-CS" sz="28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knjizara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urier New"/>
                <a:hlinkClick r:id="rId2"/>
              </a:rPr>
              <a:t>/catalog.p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7FD-FF7C-4056-82D0-8146F44451F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0570E-8412-47C3-9396-8636855D83EC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line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Knjiža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Sastoji se iz nekolik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 f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ajlova i tabela u bazi podatak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akođe, knjizara sadrži i komponentu ADMINISTRIRANJE za ažuriranje podata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File"/>
          <p:cNvSpPr/>
          <p:nvPr/>
        </p:nvSpPr>
        <p:spPr>
          <a:xfrm>
            <a:off x="1752480" y="3809880"/>
            <a:ext cx="1295640" cy="828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ile"/>
          <p:cNvSpPr/>
          <p:nvPr/>
        </p:nvSpPr>
        <p:spPr>
          <a:xfrm>
            <a:off x="3581280" y="4343400"/>
            <a:ext cx="1676520" cy="828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ile"/>
          <p:cNvSpPr/>
          <p:nvPr/>
        </p:nvSpPr>
        <p:spPr>
          <a:xfrm>
            <a:off x="5715000" y="4886280"/>
            <a:ext cx="1295280" cy="828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4" idx="6"/>
          </p:cNvCxnSpPr>
          <p:nvPr/>
        </p:nvCxnSpPr>
        <p:spPr>
          <a:xfrm flipH="1" rot="16200000">
            <a:off x="2833560" y="4204800"/>
            <a:ext cx="31500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 flipH="1" rot="16200000">
            <a:off x="4966200" y="4738320"/>
            <a:ext cx="31500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3042360" y="1980360"/>
            <a:ext cx="51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localhost/php/bookstore/index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5EC8-3C36-498A-93DE-C3FC12641F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C0720-A372-4E4C-B7DD-51DE8747BC5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Krikaz Karte za kupovin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650080" cy="295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01920" y="4937040"/>
            <a:ext cx="576036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vaka vrsta u zadnjoj koloni sadrzi i skrive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lje z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BN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 osnovu kojeg mi znam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oje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ug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e pritisn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218440" y="3848040"/>
            <a:ext cx="380880" cy="609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791320" y="4343400"/>
            <a:ext cx="26175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A7D-3BFF-4408-922B-0720F7EBA6A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61874-FECC-4B87-8663-C3E754AA045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Skriveno polje z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ISB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Da bi prikazali kompletan sadrzaj carte za kupovinu koristimo podatak u vrsti u zadnjoj kolon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ada se pošalje forma tada se 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bn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šalje u obliku skrivenog polj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514600"/>
            <a:ext cx="845820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rm method="POST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input type="hidden" name="isbn"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ue="&lt;?php echo $isbn?&gt;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submit" name="remove" value="remove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0E2-F559-4E21-A1A2-A6E9373B440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7885F-6BE6-467A-B02A-A873BA815B2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Logika u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ript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u c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600200"/>
            <a:ext cx="84582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je pritisnuto dug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Ukloni knjigu iz karte za kupovinu (cart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Uzmi tekući sadršaj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rikaži knjige koje je korisnik odabra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Uzmi tekući sadržaj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rikaži knjige koje je korisnik odabra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442-F34D-4AB4-B58F-242274AC1EA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9A2E5-4CC2-4CEC-A79B-63E5A56C521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upit delete u scripu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FROM $cart_table WHE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session_id = '$session_id' AND isbn = '$isbn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3733920"/>
            <a:ext cx="3505320" cy="1676160"/>
          </a:xfrm>
          <a:prstGeom prst="wedgeRectCallout">
            <a:avLst>
              <a:gd name="adj1" fmla="val -115398"/>
              <a:gd name="adj2" fmla="val -1018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aj upit koristimo d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klonimo knjig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z karte za kupovinu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bn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njige kao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ssion_id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koris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F0A-BB55-4C16-8457-B133E2A7736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6BD16-90FB-409D-99FD-34C8D91C2B8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upit select u scriptu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600200"/>
            <a:ext cx="84582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$cart_table.isbn AS isbn, quantity, title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hor, pub, year, pric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OM $cart_table, $book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RE $cart_table.session_id = '$session_id'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 $cart_table.isbn = $book_table.is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3657600"/>
            <a:ext cx="3505320" cy="2590920"/>
          </a:xfrm>
          <a:prstGeom prst="wedgeRectCallout">
            <a:avLst>
              <a:gd name="adj1" fmla="val -47870"/>
              <a:gd name="adj2" fmla="val -6556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aj upit SPAJA (PREKLAP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abel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(kartu za kupovinu) 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abelu knjige 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bn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lju da bi dobili sve potrebne informacije koje treba prikazati u karti za kupovin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733920"/>
            <a:ext cx="1447920" cy="99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3733920"/>
            <a:ext cx="1447920" cy="99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nji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1680" y="5638680"/>
            <a:ext cx="40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pojiti (preklopiti) na polj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b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48006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361960" y="48769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359-C68B-4A75-973E-FF9B387D0E8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71DA0-7B06-4F1E-976C-98251E515AC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t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2293920"/>
            <a:ext cx="7010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prikaž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cript </a:t>
            </a: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knjižar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/cart.p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17D-B0D0-4B60-A0A0-72DDB297A89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70F34-A96F-49E9-9307-2623F796CEE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rovje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1768320"/>
            <a:ext cx="4114800" cy="32785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791320" y="2971800"/>
            <a:ext cx="2819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 stvarnoj aplikaciji bilo bi potrebno mnogo više polja koje bi koristili za provjeru kao što su: provjera kreditne kartice, adresa, i td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E4D-78E3-4150-A9A5-575AE720107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3B057-E99B-4F14-A12E-1538D4F1042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Logika scripta za Provjer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1523880"/>
            <a:ext cx="84582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 customer's books from ca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there are no books in cart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empty cart pa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IF submit button clicke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idate for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form is vali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Make a customer ord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Remove customer's books from ca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Display order complete pa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Display page for correctio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NDI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customer data pa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D40A-831E-4A9E-9A16-6E18F1D2930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81A78-0B8C-42C9-A224-ECFF0759C37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Logika scripta za Provjeru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600200"/>
            <a:ext cx="8458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nerate a unique customer I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customer has entries left in cart D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nsert entry in to order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WHI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 customer data into customers 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4343400"/>
            <a:ext cx="2514600" cy="685800"/>
          </a:xfrm>
          <a:prstGeom prst="wedgeRectCallout">
            <a:avLst>
              <a:gd name="adj1" fmla="val -56125"/>
              <a:gd name="adj2" fmla="val -16597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ocesuiraj PORIDŽBI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E3F3-7177-4189-9EAC-3218216B9DF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3662F-ED67-4156-B6F9-26A29EB8C2DF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upit select u scriptu za provjer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isbn, quantity FROM $cart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RE session_id = '$session_id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4267080"/>
            <a:ext cx="3505320" cy="1676520"/>
          </a:xfrm>
          <a:prstGeom prst="wedgeRectCallout">
            <a:avLst>
              <a:gd name="adj1" fmla="val -124092"/>
              <a:gd name="adj2" fmla="val -9327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im upitom dobijamo s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njige u Karti za kupovinu koju je korisnik kreirao na osnov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ssion_id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koji je dodijeljen tom korisni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33ED-4B6B-46D2-9293-029631373D0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6183D-F534-4390-8793-DC9ECDA8E2F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očetna str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1550880"/>
            <a:ext cx="419112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31880" y="3870360"/>
            <a:ext cx="78008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Online Bookstore&lt;/title&gt;&lt;/head&gt;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Online Bookstore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&lt;a href=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"catalog.php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Enter Bookstore&lt;/a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&lt;a href=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"admin/index.html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Booksto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dministration&lt;/a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740-FC8C-4F78-B265-C604D67537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F3CAE-C61F-4B1C-B56C-75AC616D342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upit insert u scriptu za provjer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 INTO $order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S ('$customer_id', '$isbn', '$quantity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2971800"/>
            <a:ext cx="3505320" cy="1676520"/>
          </a:xfrm>
          <a:prstGeom prst="wedgeRectCallout">
            <a:avLst>
              <a:gd name="adj1" fmla="val -50453"/>
              <a:gd name="adj2" fmla="val -772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aj upit se koristi pri prenosu knjiga iz karte za kupovin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 tabel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_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2895480"/>
            <a:ext cx="12189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4952880"/>
            <a:ext cx="220968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_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03280" y="3794040"/>
            <a:ext cx="286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en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data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abe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 tabe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_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BE7-8DF0-4B87-B376-25C27AC8C34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50A18-E8D9-46B7-B8BB-81108D60D23C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upit insert u scriptu za provjer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 INTO $customer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S ('$customer_id', '$first_name', '$last_name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3581280"/>
            <a:ext cx="3505320" cy="1676520"/>
          </a:xfrm>
          <a:prstGeom prst="wedgeRectCallout">
            <a:avLst>
              <a:gd name="adj1" fmla="val -124092"/>
              <a:gd name="adj2" fmla="val -9327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aj upit se korist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 slučaju kada želimo da unesemmo podatak u tabelu korisnik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kon provjere poda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758-8BA7-4C86-8D58-E958F3B9D4D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459CA-111D-4FDC-B178-CA9F2A076AF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upit delete u scriptu za provjer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FROM $cart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RE session_id = 'session_id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3581280"/>
            <a:ext cx="3505320" cy="1676520"/>
          </a:xfrm>
          <a:prstGeom prst="wedgeRectCallout">
            <a:avLst>
              <a:gd name="adj1" fmla="val -124092"/>
              <a:gd name="adj2" fmla="val -9327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aj upit se koristi da uklonimo određenu knjigu u karti za kupovi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5BF-9E59-4D51-AB80-ED711283D36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D982F-8EA7-42DB-AB7E-BFE9F7C117D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out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2293920"/>
            <a:ext cx="7696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prikaž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cript </a:t>
            </a: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knjizar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/checkout.p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75D-FEDE-4099-8042-617361125C7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03AC7-1B5F-4B92-9FD7-2F14B4F2DD4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Administr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admin oper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ci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splay.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ikaz knjiga u baz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.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brisanje knjige na osnov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B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sert.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ove knjige na osnovu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B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pdate.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fomacija o knjizi na osnov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B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4248000" y="1432080"/>
            <a:ext cx="3358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njizara\admin\index.htm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236124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kaž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ipt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njiz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admin/display.ph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335196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kaž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ipt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njiz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admin/delete.ph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25052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kaž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ipt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njiz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admin/insert.ph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524088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kaž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ipt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njiz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admin/update.ph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984-AC40-4143-A18F-31710B46A04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A2B5E-5D8F-4E3E-BCD2-668E002F24F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rikaz baze knjig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95440" y="1852560"/>
            <a:ext cx="7953120" cy="3152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5715000"/>
            <a:ext cx="2057400" cy="533520"/>
          </a:xfrm>
          <a:prstGeom prst="wedgeEllipseCallout">
            <a:avLst>
              <a:gd name="adj1" fmla="val 114504"/>
              <a:gd name="adj2" fmla="val -94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link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5400000">
            <a:off x="4267080" y="4038480"/>
            <a:ext cx="533520" cy="2362320"/>
          </a:xfrm>
          <a:custGeom>
            <a:avLst/>
            <a:gdLst>
              <a:gd name="textAreaLeft" fmla="*/ 0 w 533520"/>
              <a:gd name="textAreaRight" fmla="*/ 192600 w 5335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35"/>
                </a:lnTo>
                <a:cubicBezTo>
                  <a:pt x="10800" y="9635"/>
                  <a:pt x="16200" y="10535"/>
                  <a:pt x="21600" y="10535"/>
                </a:cubicBezTo>
                <a:cubicBezTo>
                  <a:pt x="16200" y="10535"/>
                  <a:pt x="10800" y="11435"/>
                  <a:pt x="10800" y="1233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579024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kaž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ipt </a:t>
            </a:r>
            <a:r>
              <a:rPr b="0" lang="sr-Latn-C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knjižara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admin/display.ph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8EC-279C-4672-8E1D-3639FE4536D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E34ED-536C-41E8-9AB4-D37DF51F4B0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Forma za i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sert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nove knji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989000" y="1685880"/>
            <a:ext cx="5166000" cy="3486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200400" y="5774400"/>
            <a:ext cx="48769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kaž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ipt </a:t>
            </a:r>
            <a:r>
              <a:rPr b="0" lang="sr-Latn-C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knjizara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/admin/insert.ph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5AE-27BB-43EC-A7E2-7CAB978A787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29B31-95F1-4115-9B16-D893E16254CC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Forma za 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date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inform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0200" cy="1942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22440" y="3124080"/>
            <a:ext cx="7897680" cy="32004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343400" y="1371600"/>
            <a:ext cx="3124080" cy="1295280"/>
          </a:xfrm>
          <a:prstGeom prst="wedgeRoundRectCallout">
            <a:avLst>
              <a:gd name="adj1" fmla="val -82217"/>
              <a:gd name="adj2" fmla="val 27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nes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BN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 forma za dopun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nformacija o knjizi će biti prikaz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33920" y="592668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kaž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ipt </a:t>
            </a:r>
            <a:r>
              <a:rPr b="0" lang="sr-Latn-C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knjižara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admin/update.ph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412-EC2B-4785-9FDB-642805B1B41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961D3-16FF-41E4-8B00-4E75BC38D32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Forma za brisanje knji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057480" y="2475000"/>
            <a:ext cx="3029040" cy="190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581280" y="5790240"/>
            <a:ext cx="4953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kaž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ipt </a:t>
            </a:r>
            <a:r>
              <a:rPr b="0" lang="sr-Latn-C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knjižara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/admin/delete.ph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D2E8-980F-4201-B924-88EDD28B511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5427F-8EE8-4B8F-81C0-A073EC7852F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Šta treba uraditi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would be better to include price information in the cart and books_ordered tables: price may change between order generation and process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 scripts should be protected by a user name and password (Don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n order fullfillment script that displays a complete order page using the books, customers, and books_ordered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48F-E3C8-4F7B-BCD0-69936F37A39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A71A3-A064-4C0C-918C-374C00E42815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Aplikacija knjižara – fajlovi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talog.ph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rikazuju korisnički katalog sa dugmetom dodaj (add) za svaku knjigu koju naručuje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rt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rikazuje listu naručenih knjiga sa dugmetom izbaci (remove) za svaku knjigu u li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heckout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rovjer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otpremanje 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card inform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31C-0DA0-42A1-AB34-51BFE40218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094CF-1B84-43A2-ADD0-CEF5984A1E0C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Aplikacija knjižara – fajlovi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b_connect.php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Funkcija za povezivanje sa bazom podata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file is in the includes director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:\Apache\php-includes\db_connect.php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rikaži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 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db_connect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9BF-2DD2-4321-BCF6-5DC734C98F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5B373-EA11-4AF8-8D65-2211BD6445E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ink structure </a:t>
            </a: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aplikacije knjžar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1371600"/>
            <a:ext cx="20574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alog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1371600"/>
            <a:ext cx="20574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886200"/>
            <a:ext cx="20574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out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/>
          <p:nvPr/>
        </p:nvCxnSpPr>
        <p:spPr>
          <a:xfrm>
            <a:off x="3581280" y="175212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/>
          <p:nvPr/>
        </p:nvCxnSpPr>
        <p:spPr>
          <a:xfrm flipH="1">
            <a:off x="3580920" y="201888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/>
          <p:nvPr/>
        </p:nvCxnSpPr>
        <p:spPr>
          <a:xfrm flipV="1">
            <a:off x="6400440" y="236160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2133720" y="2362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45720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590560" y="41911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90920" y="2362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893480"/>
            <a:ext cx="48769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gled skrip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knjizara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/catalog.ph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5334840"/>
            <a:ext cx="46483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gled skrip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knjizara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cart.ph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7720" y="5622120"/>
            <a:ext cx="5085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gled skrip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knjizara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/checkout.ph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C72-7EF8-4485-9649-ACD8E467DBA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FEA66-4D0D-44D0-A4B6-5292715259C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Tabele u baz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bn,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naslo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au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zdava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godin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cij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id, isbn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 kolicina za svaku knjig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multiple shopp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korisnik (kupa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id, first and last nam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s_ordered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(narucne knjig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orisni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d, isbn,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olic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438080" y="5866560"/>
            <a:ext cx="45608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bookstore/bookstore.sq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3A6-AC8F-4384-8825-4E62A5BFF0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D5A7B-2339-467D-9289-52862CDD2ED0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tabela knji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600200"/>
            <a:ext cx="845820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TABLE book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sbn   CHAR(15)     PRIMARY KEY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title  VARCHAR(100)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uthor VARCHAR(100)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pub    VARCHAR(20) 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year   YEAR        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price  DECIMAL(9,2) DEFAULT NU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49AA-8B32-4461-AF2B-D58BE97B30F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4EE56-2A0D-4F23-8469-0321345A20D4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t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tabe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600200"/>
            <a:ext cx="8458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TABLE ca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session_id  CHAR(32) 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sbn        CHAR(15)  PRIMARY KEY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quantity    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114800"/>
            <a:ext cx="342900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P sess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utomatsk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generiš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ssion_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4114800"/>
            <a:ext cx="342900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se koristi 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višestruku kupovi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ppers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586-235F-4FB1-B22E-D24CB09EFC4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350DD-D86A-4919-9505-934BA1F03565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17:04:13Z</dcterms:created>
  <dc:creator>Barry Adams</dc:creator>
  <dc:description/>
  <dc:language>en-US</dc:language>
  <cp:lastModifiedBy>budo lutovac</cp:lastModifiedBy>
  <cp:lastPrinted>1999-09-14T12:12:50Z</cp:lastPrinted>
  <dcterms:modified xsi:type="dcterms:W3CDTF">2006-11-13T12:24:33Z</dcterms:modified>
  <cp:revision>140</cp:revision>
  <dc:subject>Online Bookstore Application</dc:subject>
  <dc:title>COSC 2206 Internet To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laurentian.ca/badams/c1046</vt:lpwstr>
  </property>
  <property fmtid="{D5CDD505-2E9C-101B-9397-08002B2CF9AE}" pid="9" name="LinkColor">
    <vt:r8>16711782</vt:r8>
  </property>
  <property fmtid="{D5CDD505-2E9C-101B-9397-08002B2CF9AE}" pid="10" name="MailAddress">
    <vt:lpwstr>barry@cs.laurentian.ca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ork\Html01\badams\c1046\ppt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